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29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3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8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928C-D512-4C1D-A5A7-F4A2DDBEA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introduction of self. 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Superman idea of x-ray vision was not possible. His eyes could not be both emitter and detector of x-r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and GLAST space telescopes are researching 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allows the presenter to discuss some of the related science associated with Gamma Ray Emissions – in as much depth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may want to model first activity with visible light – to demonstrate process.  Set up will be determined by the amount/number of materials available as well as time allotted – can be either station or each table has all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2EAF-A8E1-4BA8-9625-FBF2AB73E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ctivity – return and probe participants on what they lear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o connect appropriate content, address misconceptions, debunk wrong ideas and err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metallic materials will block radio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y many different energy missions exist – that each is studying different bandwidth which allows us go develop a full understanding of the events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of the sun in different wavelengths http://coolcosmos.ipac.caltech.edu/cosmic_classroom/multiwavelength_astronomy/multiwavelength_museum/sun.html – Link to Multiwavelength Sun Websit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se are false colors used to represent invisible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asic information to introduce some basic vocabul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ze over or elaborate as needed for your aud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ime, connect the idea that multiple wavelengths allow us to examine objects throughout our universe. There are examples of the Milky Way Galaxy i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dc.gsfc.nasa.gov/mw/mmw_produ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y we sent up space based observatories and satell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wavelengths make it through our atmosphere….therefore to study them we must go above our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88A5-9C15-4B53-A025-B569802C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1 &amp; 2 has been mentioned previously…..highlight by holding up the GEMS guide that there are three mor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9338-BF72-4C80-9E3C-BCA61C3AB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 spend a lot of time here. Simply background info about light a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to address:  Please note that Microwaves are actually radio waves - ….. Caution: the continuous wave image could propagate a misconception with the EM spectrum shown as one continuous wave that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sample of a slide you may want to use to show the EM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the number of wave crests that pass any specific point in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se points – define ‘shield’ and ‘transmitter’. Use of the next series of slides will allow for introduction of terms used during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s are really in the range of radio waves. (High frequency radio wav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52280"/>
            <a:ext cx="8153280" cy="1526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948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315200" y="380880"/>
            <a:ext cx="150480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62120" y="6095880"/>
            <a:ext cx="8153280" cy="1526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ksrv.net/click-291217-10273794?url=http%3A%2F%2Fwww.posternow.de%2Fonlineshop%2FDirectLinks.tpl%3Flan%3D1%26cod%3D1%26aid%3D8460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ine.gsfc.nasa.gov/docs/dict_ei.html#frequency" TargetMode="External"/><Relationship Id="rId3" Type="http://schemas.openxmlformats.org/officeDocument/2006/relationships/hyperlink" Target="http://imagine.gsfc.nasa.gov/docs/dict_ei.html#em_spectrum" TargetMode="External"/><Relationship Id="rId4" Type="http://schemas.openxmlformats.org/officeDocument/2006/relationships/hyperlink" Target="http://imagine.gsfc.nasa.gov/docs/dict_qz.html#wavelength" TargetMode="External"/><Relationship Id="rId5" Type="http://schemas.openxmlformats.org/officeDocument/2006/relationships/hyperlink" Target="http://imagine.gsfc.nasa.gov/docs/dict_qz.html#speed_of_light" TargetMode="External"/><Relationship Id="rId6" Type="http://schemas.openxmlformats.org/officeDocument/2006/relationships/hyperlink" Target="http://imagine.gsfc.nasa.gov/docs/dict_ei.html#frequency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ine.gsfc.nasa.gov/docs/dict_ei.html#em_waves" TargetMode="External"/><Relationship Id="rId3" Type="http://schemas.openxmlformats.org/officeDocument/2006/relationships/hyperlink" Target="http://imagine.gsfc.nasa.gov/docs/dict_ei.html#em_waves" TargetMode="External"/><Relationship Id="rId4" Type="http://schemas.openxmlformats.org/officeDocument/2006/relationships/hyperlink" Target="http://imagine.gsfc.nasa.gov/docs/dict_jp.html#photon" TargetMode="External"/><Relationship Id="rId5" Type="http://schemas.openxmlformats.org/officeDocument/2006/relationships/hyperlink" Target="http://imagine.gsfc.nasa.gov/docs/dict_qz.html#speed_of_light" TargetMode="External"/><Relationship Id="rId6" Type="http://schemas.openxmlformats.org/officeDocument/2006/relationships/hyperlink" Target="http://imagine.gsfc.nasa.gov/docs/dict_qz.html#radio" TargetMode="External"/><Relationship Id="rId7" Type="http://schemas.openxmlformats.org/officeDocument/2006/relationships/hyperlink" Target="http://imagine.gsfc.nasa.gov/docs/dict_jp.html#microwave" TargetMode="External"/><Relationship Id="rId8" Type="http://schemas.openxmlformats.org/officeDocument/2006/relationships/hyperlink" Target="http://imagine.gsfc.nasa.gov/docs/dict_ei.html#infrared" TargetMode="External"/><Relationship Id="rId9" Type="http://schemas.openxmlformats.org/officeDocument/2006/relationships/hyperlink" Target="http://imagine.gsfc.nasa.gov/docs/dict_qz.html#visible" TargetMode="External"/><Relationship Id="rId10" Type="http://schemas.openxmlformats.org/officeDocument/2006/relationships/hyperlink" Target="http://imagine.gsfc.nasa.gov/docs/dict_qz.html#ultraviolet" TargetMode="External"/><Relationship Id="rId11" Type="http://schemas.openxmlformats.org/officeDocument/2006/relationships/hyperlink" Target="http://imagine.gsfc.nasa.gov/docs/dict_qz.html#X-ray" TargetMode="External"/><Relationship Id="rId12" Type="http://schemas.openxmlformats.org/officeDocument/2006/relationships/hyperlink" Target="http://imagine.gsfc.nasa.gov/docs/dict_ei.html#gamma-ray" TargetMode="External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local.gb.nrao.edu/GBT/GBT.shtml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p.gsfc.nasa.gov/m_ig/990293/990293.html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store5.yimg.com/I/usappliance_1733_8267597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Invisible Univer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&amp; Detecto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Invisible Ligh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15336" t="16519" r="19779" b="17717"/>
          <a:stretch/>
        </p:blipFill>
        <p:spPr>
          <a:xfrm>
            <a:off x="3429000" y="3048120"/>
            <a:ext cx="2514600" cy="189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5486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U NASA Endeavour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isib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sun and other astronomical objec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aser point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ight bulb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meras (film or digital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uman ey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lants (red light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lescop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867280" y="4497480"/>
            <a:ext cx="2562480" cy="1598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ltraviol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620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anning booths (A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sun (A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lack light bulbs (B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V lamp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based UV detect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V Camer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lying insects (fli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0" name="" descr="SunVision 28LE Tanning Bed with face tanners"/>
          <p:cNvPicPr/>
          <p:nvPr/>
        </p:nvPicPr>
        <p:blipFill>
          <a:blip r:embed="rId2"/>
          <a:stretch/>
        </p:blipFill>
        <p:spPr>
          <a:xfrm>
            <a:off x="1066680" y="2438280"/>
            <a:ext cx="3581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X-r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stronomical object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-ray machin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T scan machin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lder televis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dioactive mineral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irport luggage scann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 based X-ray detect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-ray fil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CD detect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" descr="Loading..."/>
          <p:cNvPicPr/>
          <p:nvPr/>
        </p:nvPicPr>
        <p:blipFill>
          <a:blip r:embed="rId2"/>
          <a:stretch/>
        </p:blipFill>
        <p:spPr>
          <a:xfrm>
            <a:off x="7238880" y="4419720"/>
            <a:ext cx="1511280" cy="2108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2725920" cy="2187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86600" y="4343400"/>
            <a:ext cx="175248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amma R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dioactive material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loding nuclear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amma-ray burs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ar flar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amma detectors and astronomical satellit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dical imaging detect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8" name="" descr="The Incredible Hulk - Incredible Hulk, The - Pic 1  ( Glossy Photos 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1066680"/>
            <a:ext cx="2206800" cy="281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207040" y="3529080"/>
            <a:ext cx="3479760" cy="25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Swift spacecraft with burst going off in the background.&#10;&#9;&#9;&#9;&#9;Credit: Spectrum Astro"/>
          <p:cNvPicPr/>
          <p:nvPr/>
        </p:nvPicPr>
        <p:blipFill>
          <a:blip r:embed="rId5"/>
          <a:stretch/>
        </p:blipFill>
        <p:spPr>
          <a:xfrm>
            <a:off x="7162920" y="1523880"/>
            <a:ext cx="179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urces of Gamma-ray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miss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4440" y="193032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tive Galax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ls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use e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ernova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mma-ray bur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identif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67320" y="3425760"/>
            <a:ext cx="9360" cy="6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57800" y="2209680"/>
            <a:ext cx="340992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urce/Detector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dentify sources (emitters) and detectors of the various wavelengths of the EM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periment with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hields –types of materials that prevent the transmission of wavelength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mitters – materials that do not prevent the transmission of wavelength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Exploration St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isible Ligh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e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lashligh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adio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alkie Talki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mote Control Vehic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frar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mote Contro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eat Lam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ltraviole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V Ligh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estion: What property of the materials we tested caused radio waves to be blocked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estion: Are all the plastics we tested translucent/transparent to infrared ligh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estion: If someone had no sunscreen while at the beach what could they cover their face with to keep from getting sun burned by UV ligh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ploring the EMS with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ASA Mission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922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1506600"/>
            <a:ext cx="7007400" cy="1095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38680" y="2585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TRO-E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1101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760" y="52689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52689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-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22320" y="40496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389736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L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840" y="458316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TE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22840" y="58024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G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7600" y="25858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72240" y="45831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X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67480" y="32115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7760" y="630864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MM-New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48160" y="3059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81280" y="2830680"/>
            <a:ext cx="1524240" cy="457200"/>
            <a:chOff x="3581280" y="2830680"/>
            <a:chExt cx="1524240" cy="457200"/>
          </a:xfrm>
        </p:grpSpPr>
        <p:sp>
          <p:nvSpPr>
            <p:cNvPr id="118" name=""/>
            <p:cNvSpPr/>
            <p:nvPr/>
          </p:nvSpPr>
          <p:spPr>
            <a:xfrm flipV="1">
              <a:off x="3581280" y="2830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648320" y="2830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05520" y="2830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81280" y="3287880"/>
              <a:ext cx="1524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2514600" y="2830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57400" y="235692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581280" y="366876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343400" y="3592440"/>
            <a:ext cx="144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29200" y="45064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00600" y="3668760"/>
            <a:ext cx="1981080" cy="457200"/>
            <a:chOff x="4800600" y="3668760"/>
            <a:chExt cx="1981080" cy="457200"/>
          </a:xfrm>
        </p:grpSpPr>
        <p:sp>
          <p:nvSpPr>
            <p:cNvPr id="128" name=""/>
            <p:cNvSpPr/>
            <p:nvPr/>
          </p:nvSpPr>
          <p:spPr>
            <a:xfrm flipV="1">
              <a:off x="4800600" y="36687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81680" y="36687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4125960"/>
              <a:ext cx="198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4267080" y="504036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800600" y="504036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54975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54975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00600" y="45064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81176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6259680"/>
            <a:ext cx="14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76920" y="6259680"/>
            <a:ext cx="14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6564240"/>
            <a:ext cx="2286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267080" y="2509920"/>
            <a:ext cx="1143000" cy="304560"/>
            <a:chOff x="4267080" y="2509920"/>
            <a:chExt cx="1143000" cy="304560"/>
          </a:xfrm>
        </p:grpSpPr>
        <p:sp>
          <p:nvSpPr>
            <p:cNvPr id="141" name=""/>
            <p:cNvSpPr/>
            <p:nvPr/>
          </p:nvSpPr>
          <p:spPr>
            <a:xfrm flipV="1">
              <a:off x="4267080" y="2509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281448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410080" y="2509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86000" y="656424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412596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328788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52576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9880" y="5725800"/>
            <a:ext cx="1828800" cy="305280"/>
            <a:chOff x="3809880" y="5725800"/>
            <a:chExt cx="1828800" cy="305280"/>
          </a:xfrm>
        </p:grpSpPr>
        <p:sp>
          <p:nvSpPr>
            <p:cNvPr id="149" name=""/>
            <p:cNvSpPr/>
            <p:nvPr/>
          </p:nvSpPr>
          <p:spPr>
            <a:xfrm flipV="1">
              <a:off x="5334120" y="5725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809880" y="5725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6031080"/>
              <a:ext cx="1524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4120" y="60310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029200" y="481176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69840" y="1916280"/>
            <a:ext cx="69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eV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000640" y="206856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7240" y="130644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Rad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3920" y="1306440"/>
            <a:ext cx="59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5520" y="130644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Visib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7400" y="130644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4160" y="130644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X-ra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82680" y="1306440"/>
            <a:ext cx="76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Gamma ra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943600" y="763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85800" y="152280"/>
            <a:ext cx="2666880" cy="266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5867280" y="3809880"/>
          <a:ext cx="2819520" cy="281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380988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6858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full range of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frequencie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from radio waves to gamma rays, that characterizes ligh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electromagnetic spectrum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can be expressed in terms of energy, wavelength, or frequency. Each way of thinking about the EM spectrum is related to the others in a precise mathematical way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wavelength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equals 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speed of ligh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divided by 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frequency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Multiwavelength title"/>
          <p:cNvPicPr/>
          <p:nvPr/>
        </p:nvPicPr>
        <p:blipFill>
          <a:blip r:embed="rId2"/>
          <a:stretch/>
        </p:blipFill>
        <p:spPr>
          <a:xfrm>
            <a:off x="685800" y="304920"/>
            <a:ext cx="8458200" cy="4778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2120" y="5226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universe for that matte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89120" y="274680"/>
            <a:ext cx="827856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295280" y="1609560"/>
            <a:ext cx="7315200" cy="4638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Windows through Atm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ASA’s View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udying the Universe: 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ttp://www.lhsgems.org/IUTour.html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152280"/>
            <a:ext cx="8153280" cy="1526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EMS Gu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workbook and teachers guide inspired by th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wif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mission and developed in collaboration with the GEMS Program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ctivities in this book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1: Comparing Wave Mak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2: Invisible Light Sources and Detector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3: Putting the Electromagnetic Spectrum Together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4: Tour of the Invisible Univers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5: The Most Powerful Explosions in the Univer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6095880"/>
            <a:ext cx="8153280" cy="1526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urce of Activit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MS Guide:  The Invisible Universe. – www.lhsgems.org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ww.epo.sonoma.ed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ttp://adc.gsfc.nasa.gov/mw/mmw_product.htm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ttp://coolcosmos.ipac.caltech.edu/cosmic_classroom/multiwavelength_astronomy/multiwavelength_museum/sun.htm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tudying the Universe: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ttp://www.lhsgems.org/IUTour.htm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re Informatio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wift -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http://swift.sonoma.ed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LAST –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http://glast.sonoma.ed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XMM Newton -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http://xmm.sonoma.ed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SA EPO @ SSU –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ttp://epo.sonoma.ed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ace Mysteries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–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http://mystery.sonoma.ed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</a:rPr>
              <a:t>E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l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ectromagnetic radiation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can be described in terms of a stream of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photon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each traveling in a wave-like pattern, moving at 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speed of ligh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and carrying some amount of energy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only difference between radio waves, visible light, and gamma-rays is the energy of the photons.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Radio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waves have photons with low energies,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microwave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have a little more energy than radio waves,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infrared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has still more, then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visible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ultraviole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1"/>
              </a:rPr>
              <a:t>X-ray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and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2"/>
              </a:rPr>
              <a:t>gamma-ray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2519280"/>
            <a:ext cx="85345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4582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r any kind of wave there exists a simple relationship between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avelength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and f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quenc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wavelength is measured as the distance between two successive crests in a wave. The frequency is the number of wave crests that pass a a given point in space each second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95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</a:t>
            </a:r>
            <a:br>
              <a:rPr sz="4000"/>
            </a:br>
            <a:r>
              <a:rPr b="0" lang="en-US" sz="3000" spc="-1" strike="noStrike">
                <a:solidFill>
                  <a:srgbClr val="e3ebf1"/>
                </a:solidFill>
                <a:latin typeface="Arial"/>
              </a:rPr>
              <a:t>(Low Frequency &amp; Very High Frequency)</a:t>
            </a: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0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stronomical Objec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io Station transmitt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round based radio telescop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i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038480"/>
            <a:ext cx="2857680" cy="192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rst000003.jpg"/>
          <p:cNvPicPr/>
          <p:nvPr/>
        </p:nvPicPr>
        <p:blipFill>
          <a:blip r:embed="rId4"/>
          <a:stretch/>
        </p:blipFill>
        <p:spPr>
          <a:xfrm>
            <a:off x="2652840" y="1523880"/>
            <a:ext cx="1919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crowa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7" name="" descr="MAP Spacecraft Portrait, Computer render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78040" y="3568680"/>
            <a:ext cx="2031840" cy="2146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as clouds collapsing into st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icrowave Ove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ar Sta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icrowave Telescop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od (heated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ar system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1523880"/>
            <a:ext cx="28195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frared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Near and Thermal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n and stars (Near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V Remote Contro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od Warming Lights (Thermal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verything at room temp or abov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frared Camer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Vs, VCRs,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r ski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" name="" descr="Click here for a larger image."/>
          <p:cNvPicPr/>
          <p:nvPr/>
        </p:nvPicPr>
        <p:blipFill>
          <a:blip r:embed="rId2"/>
          <a:stretch/>
        </p:blipFill>
        <p:spPr>
          <a:xfrm>
            <a:off x="6762600" y="3809880"/>
            <a:ext cx="238140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505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4:00Z</dcterms:created>
  <dc:creator>Christine Royce</dc:creator>
  <dc:description/>
  <dc:language>en-US</dc:language>
  <cp:lastModifiedBy>sweiland</cp:lastModifiedBy>
  <dcterms:modified xsi:type="dcterms:W3CDTF">2009-10-19T09:34:55Z</dcterms:modified>
  <cp:revision>30</cp:revision>
  <dc:subject/>
  <dc:title>What Wavelength Was That?</dc:title>
</cp:coreProperties>
</file>